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BFFF-00C3-4CFB-B4E0-0424425345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41BE-332A-4C4C-8391-935CD1CDC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90F9-48F5-40FC-86EE-DAFC8E60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3141-CBC1-4C2B-9152-B4637C847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ABE-DE8A-4724-A646-A28C09EF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F9B-4831-4ACE-AF4E-30D01AA6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7F5-A155-4A9A-B410-B512D389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15A-172D-4F1D-8A09-602D7B72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CE5C-2B92-48AF-B9ED-E960F927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42D-0537-4D6B-A1E9-18FB3A72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7AA-E461-4439-BE14-D155BDEA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CC1-6EFF-4543-AD22-7B1201C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44E-8288-4674-A5FE-FDD922C4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A9D-74B8-440D-AF01-154BD5B4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430-0316-4319-8CC0-6E5A2109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58C-A533-4F69-A3D7-07D75834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B295-D5DB-4E3D-AE6C-F66F1C56AF0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FBA7-7132-42E4-ADD7-9DE232DA3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Amplitude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/Mixing in Frequency Doma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mod produ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itional frequencie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ter modulator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bines carrier and intelligence signals widely separated in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/Mixing in Frequency Doma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ing any two sine waves through nonlinear device produces following frequency compone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dc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onents at each of the two original frequ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/Mixing in Frequency Doma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ing any two sine waves through nonlinear device produces following frequency compone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onents at sum and difference frequencies of two original frequ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monics of two original frequ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 in the Time Doma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ed AM signal produces side frequencies or sidebands, one on each side of the carr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cilloscope disp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 domain represent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ation of side frequencies require frequency domain display, such as spectrum analyz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or Representation of 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de frequ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deban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 signal composed of th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per sideband (usb) at one-half carrier amplitude with frequency equal to carrier frequency plus modulating signal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or Representation of 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 signal composed of th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wer sideband (lsb) at one-half carrier amplitude at carrier frequency minus modulation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wer Distribution in Carrier and Sideb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 Tr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r amplitude and frequency always remain consta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debands changing in amplitude and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wer Distribution in Carrier and Sideb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 Tr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r contains no information since it never changes; it does contain the most pow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debands contai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Amplitud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power of modulated AM signal higher than carrier alo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power achieved at 100% modula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power contained within carr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information resides in carrier; its amplitude is consta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information contained within varying-amplitude sideban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Amplitud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ed AM waveform result of multiplication of carrier and intelligence frequencies; special instance of mix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xing (modulation) achieved when signals applied to nonlinear de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debands redundant, mirror images of each other; same information contained in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verview of Amplitu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ing information signal, often one whose instantaneous peak voltage is constantly changing and whose range of occupied frequencies is relatively low, with a carrier, which is a relatively high-frequency sine wave of constant amplitu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Amplitud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dwidth of modulated waveform is always twice highest modulating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 index must not exceed 1 (100% modulati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ing as close to 100% modulation desirable; power in sidebands greatest with high modulation percenta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pressed Carrier and Sing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wer Measur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power output of DSBFC AM transmitter is equal to carrier power plus sideband pow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ntional AM transmitters rated in terms of carrier power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pressed Carrier and Sing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wer Measur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SB systems used for voice communications; do not generate a sinusoidal wave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SB transmitters and linear power amplifiers are rated in terms of peak envelope power (PEP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pressed Carrier and Sing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vantages of SS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effective utilization of available frequency spectr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 subject to effects of selective fad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 saved by not transmitting the carrier and one sideba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pressed Carrier and Sing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es of Sideband Transmi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single sideband (SS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-sideband suppressed carrier (SSBS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in-sideband suppressed carrier or independent sideband (ISB) tr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stigial sideb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-compandored single sideband (ACSS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verview of Amplitu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characteristics of a sine wave carrier—amplitude, frequency, phase—can be modified to convey inform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verview of Amplitu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 has virtue of simplicity, both in generation at transmitter and detection at receive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e-sideband, full-carrier (DSBFC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-sideband (SS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itizens band (C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ar de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is linear function of vol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linear device or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in current not directly proportional to changes in applied vol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 Wave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mplitude when intelligence amplitude reaches maximum positive value; minimum when intelligence amplitude is at maximum negative val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ulation Inde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ng signal amplitude continues to increa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never be allowed to occ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ulation Inde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olation of law in licensed syst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on index (facto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601"/>
              </a:spcBef>
              <a:buClr>
                <a:srgbClr val="1191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mbolized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ratio of intelligence amplitude to carrier amplitude; quantifies extent to which intelligence varies carrier vol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/Mixing in Frequency Doma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x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signals at different frequencies combined in nonlinear devi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modulation distortion (intermo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sired mix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James Ramsey</cp:lastModifiedBy>
  <dcterms:modified xsi:type="dcterms:W3CDTF">2013-05-08T15:28:13Z</dcterms:modified>
  <cp:revision>5</cp:revision>
  <dc:subject/>
  <dc:title>Slide 1</dc:title>
</cp:coreProperties>
</file>